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A34-009D-4391-B484-D2367E65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44C-1867-4512-B24F-6513D34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34E-CB66-4B88-A3EE-23BAD2D5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AF9-9B76-4CCC-9DCF-5979E84C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BC1-6A95-40C2-A378-BA8E385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D69-EECA-448F-9F23-135908BD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CAC-C6BA-42DC-8AC7-5449D1C1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54B-79EE-429D-9BA6-2F183723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4CA-3FB3-4846-B8A1-DA4CC63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8CB-194D-4C3E-A25F-7B85539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9BC-6FA3-4F3A-9837-266E923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37D-9045-41E2-8F4F-39BD457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442-F2D7-4C5E-BE83-A3F5DB264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add a custo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D Rental Use C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" y="1019160"/>
            <a:ext cx="83059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rent a D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Pract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use case description for the use case “Search for a movi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UI form for that us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for the use case “DVD retur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ki.ucalgary.ca/page/Courses/Computer_Science/CPSC_203/CPSC_203_Template/Labs_Template/Week_2_-_Lab_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Design a Softwa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use case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use case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the UI forms using the use case description an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VD Rental Sto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 a DVD rental system that has two main users: a clerk and an ad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lerk can add a customer, remove a customer, update the customer’s info, rent DVD, return DVD, view late returns, search for a specific movie, or search for a specific custom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dmin can add a new DVD, remove a DVD, modify DVD info, or analyze the current ren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28600" y="0"/>
            <a:ext cx="8655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61976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 Customer Use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86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9:23:21Z</dcterms:created>
  <dc:creator>Soha</dc:creator>
  <dc:description/>
  <dc:language>en-US</dc:language>
  <cp:lastModifiedBy>Soha</cp:lastModifiedBy>
  <dcterms:modified xsi:type="dcterms:W3CDTF">2009-04-09T09:34:29Z</dcterms:modified>
  <cp:revision>9</cp:revision>
  <dc:subject/>
  <dc:title>Design Skills</dc:title>
</cp:coreProperties>
</file>